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E344-C754-4C19-A34D-5170FF7B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A2BF-31FD-40EE-8B6E-8062BD7E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24E3-AB31-4093-BB42-E14B9899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E168-7543-4E6D-9747-6AE5AF83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8433-EA26-4086-8E74-2ED02349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1E43-7894-4EED-8092-77E9570B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9AD-F48B-4A34-800F-E68E5CFF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BFE7-84D7-48A8-8EB1-1F00DDF1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31C5-7DC2-4EFC-9C41-26CEA363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0218-6F28-4817-9F9D-6F750741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5268-3992-465F-BDEA-5F31BD7E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5B65-C1DC-47B8-B37D-01597CEA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1556-3E34-4D5D-818C-33E3FA9DE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151760" cy="1295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3493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8120" y="1676520"/>
            <a:ext cx="5410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746748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16256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8:31:39Z</dcterms:created>
  <dc:creator>Graham</dc:creator>
  <dc:description/>
  <dc:language>en-US</dc:language>
  <cp:lastModifiedBy>Graham</cp:lastModifiedBy>
  <dcterms:modified xsi:type="dcterms:W3CDTF">2012-09-30T18:31:42Z</dcterms:modified>
  <cp:revision>1</cp:revision>
  <dc:subject/>
  <dc:title>Slide 1</dc:title>
</cp:coreProperties>
</file>